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57.wmf" ContentType="image/x-wmf"/>
  <Override PartName="/ppt/media/image16.png" ContentType="image/png"/>
  <Override PartName="/ppt/media/image56.wmf" ContentType="image/x-wmf"/>
  <Override PartName="/ppt/media/image15.png" ContentType="image/png"/>
  <Override PartName="/ppt/media/image55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5.png" ContentType="image/png"/>
  <Override PartName="/ppt/media/image35.png" ContentType="image/png"/>
  <Override PartName="/ppt/media/image28.wmf" ContentType="image/x-wmf"/>
  <Override PartName="/ppt/media/image10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0.wmf" ContentType="image/x-wmf"/>
  <Override PartName="/ppt/media/image46.png" ContentType="image/png"/>
  <Override PartName="/ppt/media/image31.wmf" ContentType="image/x-wmf"/>
  <Override PartName="/ppt/media/image47.wmf" ContentType="image/x-wmf"/>
  <Override PartName="/ppt/media/image49.wmf" ContentType="image/x-wmf"/>
  <Override PartName="/ppt/media/image29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51.wmf" ContentType="image/x-wmf"/>
  <Override PartName="/ppt/media/image48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B19D-EB67-4E20-8162-FB47936AE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BCC1-108E-49FC-8885-74AA82B4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54F8-E45C-4FDB-8359-88A7F9264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C63B-12F1-435F-BD5A-FA13B72AD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F315-BCF7-401A-834A-75694E13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3E5B-41AF-4510-9CE5-2E6F71E1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1AA0-9F8A-4250-9135-14F9A327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24BA-3C25-4D3B-8F44-3825DE78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33E1-BAA5-4886-B618-F2666BEF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4291-9F19-471B-9A84-91C121F5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3236-4355-4232-BFEC-5903D007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2B49-7A50-4513-934F-8E065607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CC0D-F22C-48A9-8351-F3A9BACAE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8.wm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1.wmf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1.wmf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1143000"/>
            <a:ext cx="83818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Confounding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and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Effect Modification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3733920"/>
            <a:ext cx="6172200" cy="1557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teraction/effect m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everal control variab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295280" y="1219320"/>
            <a:ext cx="670572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295280" y="1371600"/>
            <a:ext cx="647712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676520" y="1325520"/>
            <a:ext cx="61722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066680" y="914400"/>
            <a:ext cx="72392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90720" y="1676520"/>
            <a:ext cx="6997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Intera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Vers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Effect Modific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2136" t="2453" r="48195" b="23382"/>
          <a:stretch/>
        </p:blipFill>
        <p:spPr>
          <a:xfrm>
            <a:off x="914400" y="533520"/>
            <a:ext cx="7620120" cy="4914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26744" t="78558" r="24419" b="7585"/>
          <a:stretch/>
        </p:blipFill>
        <p:spPr>
          <a:xfrm>
            <a:off x="1371600" y="5410080"/>
            <a:ext cx="5943600" cy="990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14400" y="5410080"/>
            <a:ext cx="4572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5410080"/>
            <a:ext cx="121932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0" b="21517"/>
          <a:stretch/>
        </p:blipFill>
        <p:spPr>
          <a:xfrm>
            <a:off x="380880" y="380880"/>
            <a:ext cx="83822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7285"/>
          <a:stretch/>
        </p:blipFill>
        <p:spPr>
          <a:xfrm>
            <a:off x="609480" y="380880"/>
            <a:ext cx="8077320" cy="5418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0" t="84454" r="0" b="7610"/>
          <a:stretch/>
        </p:blipFill>
        <p:spPr>
          <a:xfrm>
            <a:off x="609480" y="5791320"/>
            <a:ext cx="80773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3175" t="9288" r="46088" b="59494"/>
          <a:stretch/>
        </p:blipFill>
        <p:spPr>
          <a:xfrm>
            <a:off x="1219320" y="1143000"/>
            <a:ext cx="7010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2438" t="9813" r="25931" b="7610"/>
          <a:stretch/>
        </p:blipFill>
        <p:spPr>
          <a:xfrm>
            <a:off x="533520" y="533520"/>
            <a:ext cx="8153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685800" y="762120"/>
            <a:ext cx="79246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533520" y="457200"/>
            <a:ext cx="81532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Confounding Involving Several Risk Facto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0" b="9226"/>
          <a:stretch/>
        </p:blipFill>
        <p:spPr>
          <a:xfrm>
            <a:off x="685800" y="457200"/>
            <a:ext cx="8077320" cy="5715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086600" y="5791320"/>
            <a:ext cx="15238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0" t="0" r="0" b="15700"/>
          <a:stretch/>
        </p:blipFill>
        <p:spPr>
          <a:xfrm>
            <a:off x="457200" y="990720"/>
            <a:ext cx="8229600" cy="5181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23320" y="347760"/>
            <a:ext cx="24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0" r="0" b="7575"/>
          <a:stretch/>
        </p:blipFill>
        <p:spPr>
          <a:xfrm>
            <a:off x="380880" y="838080"/>
            <a:ext cx="8305920" cy="5529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63200" y="304920"/>
            <a:ext cx="24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0" r="0" b="5726"/>
          <a:stretch/>
        </p:blipFill>
        <p:spPr>
          <a:xfrm>
            <a:off x="609480" y="682560"/>
            <a:ext cx="800100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0" b="9746"/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2286000"/>
            <a:ext cx="831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Joint Versus Marginal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Confoun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0" t="0" r="0" b="44255"/>
          <a:stretch/>
        </p:blipFill>
        <p:spPr>
          <a:xfrm>
            <a:off x="457200" y="914400"/>
            <a:ext cx="8381880" cy="3886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rcRect l="0" t="70620" r="0" b="10808"/>
          <a:stretch/>
        </p:blipFill>
        <p:spPr>
          <a:xfrm>
            <a:off x="457200" y="4800600"/>
            <a:ext cx="8381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0" t="42245" r="0" b="42994"/>
          <a:stretch/>
        </p:blipFill>
        <p:spPr>
          <a:xfrm>
            <a:off x="838080" y="5105520"/>
            <a:ext cx="7620120" cy="914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rcRect l="0" t="36763" r="0" b="12918"/>
          <a:stretch/>
        </p:blipFill>
        <p:spPr>
          <a:xfrm>
            <a:off x="838080" y="914400"/>
            <a:ext cx="7620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14457"/>
          <a:stretch/>
        </p:blipFill>
        <p:spPr>
          <a:xfrm>
            <a:off x="533520" y="380880"/>
            <a:ext cx="8305560" cy="6096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29597" t="72600" r="35721" b="7610"/>
          <a:stretch/>
        </p:blipFill>
        <p:spPr>
          <a:xfrm>
            <a:off x="3505320" y="5334120"/>
            <a:ext cx="2590560" cy="1143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791320" y="5334120"/>
            <a:ext cx="53316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9262" t="24298" r="58337" b="68421"/>
          <a:stretch/>
        </p:blipFill>
        <p:spPr>
          <a:xfrm>
            <a:off x="1905120" y="2133720"/>
            <a:ext cx="2666880" cy="457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rcRect l="0" t="42245" r="0" b="42994"/>
          <a:stretch/>
        </p:blipFill>
        <p:spPr>
          <a:xfrm>
            <a:off x="685800" y="5105520"/>
            <a:ext cx="7772400" cy="914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rcRect l="0" t="39129" r="0" b="17962"/>
          <a:stretch/>
        </p:blipFill>
        <p:spPr>
          <a:xfrm>
            <a:off x="685800" y="2590920"/>
            <a:ext cx="7772400" cy="2590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rcRect l="0" t="2528" r="0" b="74765"/>
          <a:stretch/>
        </p:blipFill>
        <p:spPr>
          <a:xfrm>
            <a:off x="685800" y="762120"/>
            <a:ext cx="7772400" cy="1371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85800" y="2133720"/>
            <a:ext cx="12193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95680" y="2133720"/>
            <a:ext cx="38862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rcRect l="0" t="42245" r="99029" b="42994"/>
          <a:stretch/>
        </p:blipFill>
        <p:spPr>
          <a:xfrm>
            <a:off x="685800" y="2133720"/>
            <a:ext cx="76320" cy="914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rcRect l="0" t="42245" r="99029" b="42994"/>
          <a:stretch/>
        </p:blipFill>
        <p:spPr>
          <a:xfrm>
            <a:off x="8381880" y="2133720"/>
            <a:ext cx="76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0" t="0" r="0" b="11746"/>
          <a:stretch/>
        </p:blipFill>
        <p:spPr>
          <a:xfrm>
            <a:off x="457200" y="685800"/>
            <a:ext cx="838188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0" t="0" r="0" b="11841"/>
          <a:stretch/>
        </p:blipFill>
        <p:spPr>
          <a:xfrm>
            <a:off x="762120" y="762120"/>
            <a:ext cx="79246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0" t="46451" r="0" b="9438"/>
          <a:stretch/>
        </p:blipFill>
        <p:spPr>
          <a:xfrm>
            <a:off x="609480" y="3429000"/>
            <a:ext cx="8001000" cy="2895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rcRect l="0" t="4969" r="0" b="44711"/>
          <a:stretch/>
        </p:blipFill>
        <p:spPr>
          <a:xfrm>
            <a:off x="609480" y="457200"/>
            <a:ext cx="8001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964" t="3943" r="2882" b="53949"/>
          <a:stretch/>
        </p:blipFill>
        <p:spPr>
          <a:xfrm>
            <a:off x="533520" y="685800"/>
            <a:ext cx="8153280" cy="2666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rcRect l="20006" t="45675" r="30004" b="7448"/>
          <a:stretch/>
        </p:blipFill>
        <p:spPr>
          <a:xfrm>
            <a:off x="533520" y="3352680"/>
            <a:ext cx="4190760" cy="2971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rcRect l="21159" t="46063" r="28851" b="7898"/>
          <a:stretch/>
        </p:blipFill>
        <p:spPr>
          <a:xfrm>
            <a:off x="4724280" y="335268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5723"/>
          <a:stretch/>
        </p:blipFill>
        <p:spPr>
          <a:xfrm>
            <a:off x="838080" y="609480"/>
            <a:ext cx="76201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14400" y="6094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0" r="0" b="9087"/>
          <a:stretch/>
        </p:blipFill>
        <p:spPr>
          <a:xfrm>
            <a:off x="838080" y="60948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0" b="28915"/>
          <a:stretch/>
        </p:blipFill>
        <p:spPr>
          <a:xfrm>
            <a:off x="533520" y="685800"/>
            <a:ext cx="8153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0" t="0" r="0" b="8649"/>
          <a:stretch/>
        </p:blipFill>
        <p:spPr>
          <a:xfrm>
            <a:off x="609480" y="304920"/>
            <a:ext cx="8001000" cy="6095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rcRect l="14610" t="42058" r="3997" b="44148"/>
          <a:stretch/>
        </p:blipFill>
        <p:spPr>
          <a:xfrm>
            <a:off x="3886200" y="2666880"/>
            <a:ext cx="464832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14400" y="609480"/>
            <a:ext cx="746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2003" t="0" r="2003" b="55301"/>
          <a:stretch/>
        </p:blipFill>
        <p:spPr>
          <a:xfrm>
            <a:off x="838080" y="609480"/>
            <a:ext cx="7696440" cy="2743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rcRect l="24003" t="44611" r="22000" b="7285"/>
          <a:stretch/>
        </p:blipFill>
        <p:spPr>
          <a:xfrm>
            <a:off x="4419720" y="3352680"/>
            <a:ext cx="4114800" cy="3048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26006" t="42058" r="20006" b="10264"/>
          <a:stretch/>
        </p:blipFill>
        <p:spPr>
          <a:xfrm>
            <a:off x="838080" y="3200400"/>
            <a:ext cx="3657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0" t="0" r="0" b="27851"/>
          <a:stretch/>
        </p:blipFill>
        <p:spPr>
          <a:xfrm>
            <a:off x="685800" y="380880"/>
            <a:ext cx="8001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0665"/>
          <a:stretch/>
        </p:blipFill>
        <p:spPr>
          <a:xfrm>
            <a:off x="914400" y="457200"/>
            <a:ext cx="7467480" cy="5791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38080" y="5638680"/>
            <a:ext cx="7543800" cy="8254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sufficient to control for either K or 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control for confoun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Confounding:  Validity Versus Precis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0" t="0" r="0" b="7736"/>
          <a:stretch/>
        </p:blipFill>
        <p:spPr>
          <a:xfrm>
            <a:off x="380880" y="457200"/>
            <a:ext cx="845820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rcRect l="0" t="0" r="0" b="37664"/>
          <a:stretch/>
        </p:blipFill>
        <p:spPr>
          <a:xfrm>
            <a:off x="609480" y="838080"/>
            <a:ext cx="80773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rcRect l="0" t="0" r="0" b="44359"/>
          <a:stretch/>
        </p:blipFill>
        <p:spPr>
          <a:xfrm>
            <a:off x="609480" y="838080"/>
            <a:ext cx="7772400" cy="3124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85800" y="4191120"/>
            <a:ext cx="76960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rcRect l="0" t="0" r="0" b="9746"/>
          <a:stretch/>
        </p:blipFill>
        <p:spPr>
          <a:xfrm>
            <a:off x="609480" y="380880"/>
            <a:ext cx="7848720" cy="5715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286000" y="5943600"/>
            <a:ext cx="609588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5715000"/>
            <a:ext cx="167652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rcRect l="0" t="0" r="0" b="27797"/>
          <a:stretch/>
        </p:blipFill>
        <p:spPr>
          <a:xfrm>
            <a:off x="533520" y="380880"/>
            <a:ext cx="8153280" cy="44960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09480" y="4876920"/>
            <a:ext cx="7620120" cy="13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0" t="0" r="0" b="36225"/>
          <a:stretch/>
        </p:blipFill>
        <p:spPr>
          <a:xfrm>
            <a:off x="533520" y="380880"/>
            <a:ext cx="8076960" cy="4038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72213" r="0" b="18165"/>
          <a:stretch/>
        </p:blipFill>
        <p:spPr>
          <a:xfrm>
            <a:off x="533520" y="4419720"/>
            <a:ext cx="8076960" cy="598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09480" y="5029200"/>
            <a:ext cx="7848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11841" r="0" b="7610"/>
          <a:stretch/>
        </p:blipFill>
        <p:spPr>
          <a:xfrm>
            <a:off x="685800" y="533520"/>
            <a:ext cx="7924680" cy="5943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0" y="5791320"/>
            <a:ext cx="161604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0" t="81845" r="0" b="9746"/>
          <a:stretch/>
        </p:blipFill>
        <p:spPr>
          <a:xfrm>
            <a:off x="533520" y="2133720"/>
            <a:ext cx="7772400" cy="533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475000" y="2514600"/>
            <a:ext cx="57578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05720" y="2286000"/>
            <a:ext cx="1523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rcRect l="0" t="48237" r="0" b="36225"/>
          <a:stretch/>
        </p:blipFill>
        <p:spPr>
          <a:xfrm>
            <a:off x="533520" y="1219320"/>
            <a:ext cx="7772400" cy="914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09480" y="2666880"/>
            <a:ext cx="76201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rcRect l="0" t="0" r="0" b="8144"/>
          <a:stretch/>
        </p:blipFill>
        <p:spPr>
          <a:xfrm>
            <a:off x="380880" y="609480"/>
            <a:ext cx="838224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0" t="0" r="0" b="7736"/>
          <a:stretch/>
        </p:blipFill>
        <p:spPr>
          <a:xfrm>
            <a:off x="685800" y="609480"/>
            <a:ext cx="7848720" cy="57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rcRect l="0" t="0" r="0" b="7736"/>
          <a:stretch/>
        </p:blipFill>
        <p:spPr>
          <a:xfrm>
            <a:off x="685800" y="609480"/>
            <a:ext cx="7924680" cy="569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685800" y="762120"/>
            <a:ext cx="8077320" cy="5790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rcRect l="0" t="24584" r="0" b="63137"/>
          <a:stretch/>
        </p:blipFill>
        <p:spPr>
          <a:xfrm>
            <a:off x="685800" y="380880"/>
            <a:ext cx="807732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90720" y="838080"/>
            <a:ext cx="7162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600200" y="1371600"/>
            <a:ext cx="61722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676520" y="1447920"/>
            <a:ext cx="609588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5-01-10T19:56:14Z</dcterms:modified>
  <cp:revision>20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86904489</vt:r8>
  </property>
  <property fmtid="{D5CDD505-2E9C-101B-9397-08002B2CF9AE}" pid="3" name="_AuthorEmail">
    <vt:lpwstr>dgk0@cdc.gov</vt:lpwstr>
  </property>
  <property fmtid="{D5CDD505-2E9C-101B-9397-08002B2CF9AE}" pid="4" name="_AuthorEmailDisplayName">
    <vt:lpwstr>Kleinbaum, David</vt:lpwstr>
  </property>
  <property fmtid="{D5CDD505-2E9C-101B-9397-08002B2CF9AE}" pid="5" name="_EmailSubject">
    <vt:lpwstr>meas of disease freq pp attached</vt:lpwstr>
  </property>
  <property fmtid="{D5CDD505-2E9C-101B-9397-08002B2CF9AE}" pid="6" name="_ReviewingToolsShownOnce">
    <vt:lpwstr/>
  </property>
</Properties>
</file>